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C073-F005-4AE9-9BB3-F9F2FA6E5A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ssing Membranes 1 – Passiv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ok Reference: p.22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Membranes 1 – Passiv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particles tend to diffuse faster than larger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particles tend to diffuse faster than larger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distance, the faster the rate of diffus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distance, the faster the rate of diffus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facilitate the diffusion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ions not diffuse freely across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ach channel protein is specific to one type of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facilitate the diffusion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ions not diffuse freely across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ach channel protein is specific to one type of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can open or close their pores acting like gates depending upon the cell’s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can open or close their pores acting like gates depending upon the cell’s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 are more sophisticated in the way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 are more sophisticated in the way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iffusion? (defin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s the movement of molecules (or ions) from a region of high concentration to a region of lower concentration until they are spread out eve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iffusion? (defin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s the movement of molecules (or ions) from a region of high concentration to a region of lower concentration until they are spread out eve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Diffusion in the Alveoli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diffusing into the blood and CO2 diffusing ou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Diffusion in the Alveoli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diffusing into the blood and CO2 diffusing ou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 Some digested food diffuses across the gut wall into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 Some digested food diffuses across the gut wall into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of diffusion is directly proportional to the concentration gra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of diffusion is directly proportional to the concentration gra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B805-BBBF-4188-BB15-E13383A5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8E4C-622D-4CA8-9F45-A0364991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501C-71D8-42BD-AC7C-28E619C1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79C3-7512-4B81-9852-8293D836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FFE1-6F1C-41E0-B010-BD37F603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4695-2905-4BC3-9BE0-5747BCC9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C979-69DF-4691-8C75-2DACE539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18F9-27B7-499E-9957-BB14D705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80DF-1E18-4E10-A644-819B1264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3ADE-BBE7-4311-BBE6-E4D1FDDF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EEEB-2C5D-47EA-9FFE-D3F89BDC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5201-0FCE-4131-963D-04A9C9FA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7116-63C0-4BE3-B042-CCEF6FCC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035A-F33B-4D45-A7D2-7A450A31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99A3-5730-4B19-9B89-4BBD9FE5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FCA5-4D76-41A5-9CE9-C1587BE6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33DA-F31C-4641-B581-0A1D88E9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A60B-BFB9-43D0-B3BD-91C3106A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385B-93EA-478A-88AD-78BA2E97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77B0-05C8-4DF8-9619-F67C415B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EF5E-6193-4F6F-A926-A11AEB18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0FDB-3466-441C-9157-4F571374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16B1-8BB8-44DD-A5E6-CD322C8E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797E-D839-4B20-A434-CAC79FD1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863D-8004-44C5-8787-3BE910DA7DF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6CED-11AF-442D-8F8E-FEBB5B15C9D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Crossing Membranes 1 – Passive Process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k Reference: p.22-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Small particles tend to diffuse faster than larger 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6" descr="MembranePoresandMolecules"/>
          <p:cNvPicPr/>
          <p:nvPr/>
        </p:nvPicPr>
        <p:blipFill>
          <a:blip r:embed="rId1"/>
          <a:stretch/>
        </p:blipFill>
        <p:spPr>
          <a:xfrm>
            <a:off x="971640" y="1773360"/>
            <a:ext cx="7416720" cy="46083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134100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3" name="Picture 5" descr="3097_web"/>
          <p:cNvPicPr/>
          <p:nvPr/>
        </p:nvPicPr>
        <p:blipFill>
          <a:blip r:embed="rId1"/>
          <a:stretch/>
        </p:blipFill>
        <p:spPr>
          <a:xfrm>
            <a:off x="5003640" y="2133720"/>
            <a:ext cx="3810240" cy="4390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respmemb"/>
          <p:cNvPicPr/>
          <p:nvPr/>
        </p:nvPicPr>
        <p:blipFill>
          <a:blip r:embed="rId2"/>
          <a:stretch/>
        </p:blipFill>
        <p:spPr>
          <a:xfrm>
            <a:off x="611280" y="3357720"/>
            <a:ext cx="3419280" cy="20095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Picture 5" descr="C3leaf"/>
          <p:cNvPicPr/>
          <p:nvPr/>
        </p:nvPicPr>
        <p:blipFill>
          <a:blip r:embed="rId1"/>
          <a:stretch/>
        </p:blipFill>
        <p:spPr>
          <a:xfrm>
            <a:off x="539640" y="2349360"/>
            <a:ext cx="8209080" cy="417528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The shorter the distance, the faster the rate of diffusion</a:t>
            </a: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95640" y="3860640"/>
            <a:ext cx="627948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An increase in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increases the rate of diff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-647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cilitated Diff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facilitatedDiffusion"/>
          <p:cNvPicPr/>
          <p:nvPr/>
        </p:nvPicPr>
        <p:blipFill>
          <a:blip r:embed="rId1"/>
          <a:stretch/>
        </p:blipFill>
        <p:spPr>
          <a:xfrm>
            <a:off x="3564000" y="2708280"/>
            <a:ext cx="5162400" cy="386712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Channel Proteins facilitate the diffusion of 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332280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cc"/>
                </a:solidFill>
                <a:latin typeface="Arial"/>
              </a:rPr>
              <a:t>Why can ions not diffuse freely across the membran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facil_di"/>
          <p:cNvPicPr/>
          <p:nvPr/>
        </p:nvPicPr>
        <p:blipFill>
          <a:blip r:embed="rId1"/>
          <a:stretch/>
        </p:blipFill>
        <p:spPr>
          <a:xfrm>
            <a:off x="4211640" y="2349360"/>
            <a:ext cx="4105440" cy="3381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7"/>
          <p:cNvSpPr/>
          <p:nvPr/>
        </p:nvSpPr>
        <p:spPr>
          <a:xfrm>
            <a:off x="4500720" y="580536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80"/>
                </a:solidFill>
                <a:latin typeface="Arial"/>
              </a:rPr>
              <a:t>Usually each channel protein is specific to one type of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Channel proteins can open or close their pores acting like gates depending upon the cell’s need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2" name="Picture 5" descr="facilitateddiffusion"/>
          <p:cNvPicPr/>
          <p:nvPr/>
        </p:nvPicPr>
        <p:blipFill>
          <a:blip r:embed="rId1"/>
          <a:stretch/>
        </p:blipFill>
        <p:spPr>
          <a:xfrm>
            <a:off x="684360" y="2595600"/>
            <a:ext cx="7920000" cy="320976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Carrier proteins are more sophisticated in the way they work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facildiffmodels"/>
          <p:cNvPicPr/>
          <p:nvPr/>
        </p:nvPicPr>
        <p:blipFill>
          <a:blip r:embed="rId1"/>
          <a:stretch/>
        </p:blipFill>
        <p:spPr>
          <a:xfrm>
            <a:off x="2124000" y="3552840"/>
            <a:ext cx="5058000" cy="330516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9" name="Picture 5" descr="image025"/>
          <p:cNvPicPr/>
          <p:nvPr/>
        </p:nvPicPr>
        <p:blipFill>
          <a:blip r:embed="rId1"/>
          <a:stretch/>
        </p:blipFill>
        <p:spPr>
          <a:xfrm>
            <a:off x="1476360" y="3284640"/>
            <a:ext cx="5572080" cy="29145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4352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10275248"/>
          <p:cNvPicPr/>
          <p:nvPr/>
        </p:nvPicPr>
        <p:blipFill>
          <a:blip r:embed="rId1"/>
          <a:stretch/>
        </p:blipFill>
        <p:spPr>
          <a:xfrm>
            <a:off x="3924360" y="299736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-647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 in Ai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5" descr="chimneys_"/>
          <p:cNvPicPr/>
          <p:nvPr/>
        </p:nvPicPr>
        <p:blipFill>
          <a:blip r:embed="rId1"/>
          <a:stretch/>
        </p:blipFill>
        <p:spPr>
          <a:xfrm>
            <a:off x="0" y="549360"/>
            <a:ext cx="6156360" cy="461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diffusion-animated"/>
          <p:cNvPicPr/>
          <p:nvPr/>
        </p:nvPicPr>
        <p:blipFill>
          <a:blip r:embed="rId2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 in wat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11" descr="GB1-os18"/>
          <p:cNvPicPr/>
          <p:nvPr/>
        </p:nvPicPr>
        <p:blipFill>
          <a:blip r:embed="rId1"/>
          <a:stretch/>
        </p:blipFill>
        <p:spPr>
          <a:xfrm>
            <a:off x="1692360" y="2276640"/>
            <a:ext cx="5162400" cy="38671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-458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0066"/>
                </a:solidFill>
                <a:latin typeface="Arial"/>
              </a:rPr>
              <a:t>What is diffusion? (definition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cc"/>
                </a:solidFill>
                <a:latin typeface="Comic Sans MS"/>
              </a:rPr>
              <a:t>Diffusion is the movement of molecules (or ions) from a region of high concentration to a region of lower concentration until they are spread out even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1304"/>
          <p:cNvPicPr/>
          <p:nvPr/>
        </p:nvPicPr>
        <p:blipFill>
          <a:blip r:embed="rId1"/>
          <a:stretch/>
        </p:blipFill>
        <p:spPr>
          <a:xfrm>
            <a:off x="395280" y="2997360"/>
            <a:ext cx="8334360" cy="38606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Example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:Diffusion in the Alveoli: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r>
              <a:rPr b="1" lang="en-GB" sz="35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35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3500" spc="-1" strike="noStrike">
                <a:solidFill>
                  <a:srgbClr val="ff0000"/>
                </a:solidFill>
                <a:latin typeface="Arial"/>
              </a:rPr>
              <a:t> diffusing into the blood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CO</a:t>
            </a:r>
            <a:r>
              <a:rPr b="1" lang="en-GB" sz="35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 diffusing out of the bloo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Picture 5" descr="0013n046"/>
          <p:cNvPicPr/>
          <p:nvPr/>
        </p:nvPicPr>
        <p:blipFill>
          <a:blip r:embed="rId1"/>
          <a:stretch/>
        </p:blipFill>
        <p:spPr>
          <a:xfrm>
            <a:off x="395280" y="2516040"/>
            <a:ext cx="8137440" cy="43419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Example 2: 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Some digested food diffuses across the gut wall into the bloo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Picture 5" descr="fig2_xl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6893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hat affects the rate of diffusio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147160" cy="16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Concentration_Gradient_carbondioxide"/>
          <p:cNvPicPr/>
          <p:nvPr/>
        </p:nvPicPr>
        <p:blipFill>
          <a:blip r:embed="rId1"/>
          <a:stretch/>
        </p:blipFill>
        <p:spPr>
          <a:xfrm>
            <a:off x="179280" y="3141720"/>
            <a:ext cx="4248360" cy="3716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water"/>
          <p:cNvPicPr/>
          <p:nvPr/>
        </p:nvPicPr>
        <p:blipFill>
          <a:blip r:embed="rId2"/>
          <a:stretch/>
        </p:blipFill>
        <p:spPr>
          <a:xfrm>
            <a:off x="4572000" y="3860640"/>
            <a:ext cx="4276800" cy="2533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0"/>
          <p:cNvSpPr/>
          <p:nvPr/>
        </p:nvSpPr>
        <p:spPr>
          <a:xfrm>
            <a:off x="1835280" y="414972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33cc"/>
                </a:solidFill>
                <a:uFillTx/>
                <a:latin typeface="Arial"/>
              </a:rPr>
              <a:t>The rate of diffusion is directly proportional to the concentr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hat affects the rate of diffusio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Picture 7" descr="12_02_diffusion_rate"/>
          <p:cNvPicPr/>
          <p:nvPr/>
        </p:nvPicPr>
        <p:blipFill>
          <a:blip r:embed="rId1"/>
          <a:stretch/>
        </p:blipFill>
        <p:spPr>
          <a:xfrm>
            <a:off x="1258920" y="1771560"/>
            <a:ext cx="6838920" cy="50864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20:13:43Z</dcterms:created>
  <dc:creator>User</dc:creator>
  <dc:description/>
  <dc:language>en-US</dc:language>
  <cp:lastModifiedBy>LEGION2</cp:lastModifiedBy>
  <dcterms:modified xsi:type="dcterms:W3CDTF">2016-01-11T13:14:41Z</dcterms:modified>
  <cp:revision>11</cp:revision>
  <dc:subject/>
  <dc:title>Crossing Membranes 1 – Passive Processes</dc:title>
</cp:coreProperties>
</file>